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3A10-ACAE-4CB1-86A6-36222A53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C1E1-F67B-4E5C-875E-C2E0F0E5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0FA2-D466-4DB2-BA65-FF78F27D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49F-C0C2-47D1-A140-286E78F9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CD48-0079-4BB0-969E-8212D19F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D02-1EE2-44E7-8BB9-959284DF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1D4-B2A2-49B6-8CD4-AE3695D5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49E-B3D3-480E-839F-5D54ED63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B11F-3AB5-4314-BA05-213A9E2D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68A1-B1A0-4343-8C21-FF946EE7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D87-5B8C-49AE-A083-43729DF4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6B2-631C-4C51-ADC1-4EB6F55F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B589-33F9-4E5D-8C2A-6D9FC5A28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xt C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52680" y="3581280"/>
            <a:ext cx="24480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ey to reading well is being able to understand what you re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his is easier said than d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vocabulary words can be confusing, odd, or unknow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is happens, it helps if you can at least understand the other words in the paragraph you are read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formation in the paragraph can be a clue to help you understand the words you don't know. This is called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xt c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xt cl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words around the unknown word. It is also the information that makes up the rest of the paragrap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some things to look for when usin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xt clu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ctuation marks - a comma or dash may show you something about the unknown words. They can also give a clue to the new word's defini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rge w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x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he referee's decision—he yelled until his coach had to calm him dow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71028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words, such as "or" and "that is," may give you a hint to a defin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estaurant said that removing one's hat during the show w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ga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o read the entire passage. An unknown word may make more sense after you read the entire paragraph or pa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ger Kerrington had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at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unger for knowledge. He was the library's best patron, checking out at least ten new books a week. Whether it was about history, art, literature, math, or science, Roger wanted to know everyt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Dorado Legend Snared Sir Walter Rale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21:16:12Z</dcterms:created>
  <dc:creator>ASD</dc:creator>
  <dc:description/>
  <dc:language>en-US</dc:language>
  <cp:lastModifiedBy>Leif Erickson</cp:lastModifiedBy>
  <dcterms:modified xsi:type="dcterms:W3CDTF">2011-06-04T23:33:10Z</dcterms:modified>
  <cp:revision>3</cp:revision>
  <dc:subject/>
  <dc:title>Context Clues</dc:title>
</cp:coreProperties>
</file>